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8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A0CFA4F-7BD5-4BDC-87C9-9757798F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26"/>
          <p:cNvSpPr/>
          <p:nvPr/>
        </p:nvSpPr>
        <p:spPr>
          <a:xfrm>
            <a:off x="0" y="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8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3956040" y="8750160"/>
            <a:ext cx="302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11628C-CB1C-439C-B2D8-2AFD5939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95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ENERAL JOURN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18\Ch18-04a.jpg"/>
          <p:cNvPicPr/>
          <p:nvPr/>
        </p:nvPicPr>
        <p:blipFill>
          <a:blip r:embed="rId1"/>
          <a:srcRect l="11921" t="0" r="0" b="60085"/>
          <a:stretch/>
        </p:blipFill>
        <p:spPr>
          <a:xfrm>
            <a:off x="458640" y="1143000"/>
            <a:ext cx="812664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5715000" y="2209680"/>
            <a:ext cx="106668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858000" y="2209680"/>
            <a:ext cx="106668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IT MEMORANDUM  FOR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D:\C21 PowerPoint\Multi_Journal\art for blue\Ch18\Ch18-04b.jpg"/>
          <p:cNvPicPr/>
          <p:nvPr/>
        </p:nvPicPr>
        <p:blipFill>
          <a:blip r:embed="rId1"/>
          <a:srcRect l="18835" t="0" r="0" b="41528"/>
          <a:stretch/>
        </p:blipFill>
        <p:spPr>
          <a:xfrm>
            <a:off x="422280" y="1225440"/>
            <a:ext cx="7578720" cy="4565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72"/>
          <p:cNvGrpSpPr/>
          <p:nvPr/>
        </p:nvGrpSpPr>
        <p:grpSpPr>
          <a:xfrm>
            <a:off x="4089240" y="3989520"/>
            <a:ext cx="5058000" cy="610920"/>
            <a:chOff x="4089240" y="3989520"/>
            <a:chExt cx="5058000" cy="610920"/>
          </a:xfrm>
        </p:grpSpPr>
        <p:sp>
          <p:nvSpPr>
            <p:cNvPr id="56" name="Text Box 1065"/>
            <p:cNvSpPr/>
            <p:nvPr/>
          </p:nvSpPr>
          <p:spPr>
            <a:xfrm>
              <a:off x="6211800" y="4232160"/>
              <a:ext cx="29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941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032"/>
            <p:cNvSpPr/>
            <p:nvPr/>
          </p:nvSpPr>
          <p:spPr>
            <a:xfrm>
              <a:off x="4089240" y="39895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1063"/>
          <p:cNvSpPr/>
          <p:nvPr/>
        </p:nvSpPr>
        <p:spPr>
          <a:xfrm>
            <a:off x="5031720" y="4232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457200" y="118440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8. Returned merchandise to Second Round, Inc. $143.00, covering Purchase Invoice No. 230. Debit memorandum No. 7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8"/>
          <p:cNvSpPr/>
          <p:nvPr/>
        </p:nvSpPr>
        <p:spPr>
          <a:xfrm>
            <a:off x="457200" y="2022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 Returns and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29"/>
          <p:cNvSpPr/>
          <p:nvPr/>
        </p:nvSpPr>
        <p:spPr>
          <a:xfrm>
            <a:off x="7543800" y="201600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0"/>
          <p:cNvSpPr/>
          <p:nvPr/>
        </p:nvSpPr>
        <p:spPr>
          <a:xfrm>
            <a:off x="6189840" y="20224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1"/>
          <p:cNvSpPr/>
          <p:nvPr/>
        </p:nvSpPr>
        <p:spPr>
          <a:xfrm>
            <a:off x="4437000" y="202248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6"/>
          <p:cNvSpPr/>
          <p:nvPr/>
        </p:nvSpPr>
        <p:spPr>
          <a:xfrm>
            <a:off x="152280" y="398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7"/>
          <p:cNvSpPr/>
          <p:nvPr/>
        </p:nvSpPr>
        <p:spPr>
          <a:xfrm>
            <a:off x="756720" y="4214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1073"/>
          <p:cNvGrpSpPr/>
          <p:nvPr/>
        </p:nvGrpSpPr>
        <p:grpSpPr>
          <a:xfrm>
            <a:off x="291600" y="4079880"/>
            <a:ext cx="4751280" cy="459720"/>
            <a:chOff x="291600" y="4079880"/>
            <a:chExt cx="4751280" cy="459720"/>
          </a:xfrm>
        </p:grpSpPr>
        <p:sp>
          <p:nvSpPr>
            <p:cNvPr id="68" name="Rectangle 1038"/>
            <p:cNvSpPr/>
            <p:nvPr/>
          </p:nvSpPr>
          <p:spPr>
            <a:xfrm>
              <a:off x="29160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9"/>
            <p:cNvSpPr/>
            <p:nvPr/>
          </p:nvSpPr>
          <p:spPr>
            <a:xfrm>
              <a:off x="455724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040"/>
          <p:cNvSpPr/>
          <p:nvPr/>
        </p:nvSpPr>
        <p:spPr>
          <a:xfrm>
            <a:off x="798480" y="506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41"/>
          <p:cNvSpPr/>
          <p:nvPr/>
        </p:nvSpPr>
        <p:spPr>
          <a:xfrm>
            <a:off x="2697120" y="53481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42"/>
          <p:cNvSpPr/>
          <p:nvPr/>
        </p:nvSpPr>
        <p:spPr>
          <a:xfrm>
            <a:off x="2343960" y="523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075"/>
          <p:cNvGrpSpPr/>
          <p:nvPr/>
        </p:nvGrpSpPr>
        <p:grpSpPr>
          <a:xfrm>
            <a:off x="228600" y="3178080"/>
            <a:ext cx="8918640" cy="2449440"/>
            <a:chOff x="228600" y="3178080"/>
            <a:chExt cx="8918640" cy="2449440"/>
          </a:xfrm>
        </p:grpSpPr>
        <p:grpSp>
          <p:nvGrpSpPr>
            <p:cNvPr id="74" name="Group 1074"/>
            <p:cNvGrpSpPr/>
            <p:nvPr/>
          </p:nvGrpSpPr>
          <p:grpSpPr>
            <a:xfrm>
              <a:off x="3541680" y="3184560"/>
              <a:ext cx="5605560" cy="1508760"/>
              <a:chOff x="3541680" y="3184560"/>
              <a:chExt cx="5605560" cy="1508760"/>
            </a:xfrm>
          </p:grpSpPr>
          <p:sp>
            <p:nvSpPr>
              <p:cNvPr id="75" name="Text Box 1066"/>
              <p:cNvSpPr/>
              <p:nvPr/>
            </p:nvSpPr>
            <p:spPr>
              <a:xfrm>
                <a:off x="6211800" y="4232160"/>
                <a:ext cx="293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9414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66cc"/>
                    </a:solidFill>
                    <a:latin typeface="Arial"/>
                  </a:rPr>
                  <a:t>820.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071"/>
              <p:cNvGrpSpPr/>
              <p:nvPr/>
            </p:nvGrpSpPr>
            <p:grpSpPr>
              <a:xfrm>
                <a:off x="3541680" y="3184560"/>
                <a:ext cx="5028480" cy="1508760"/>
                <a:chOff x="3541680" y="3184560"/>
                <a:chExt cx="5028480" cy="1508760"/>
              </a:xfrm>
            </p:grpSpPr>
            <p:grpSp>
              <p:nvGrpSpPr>
                <p:cNvPr id="77" name="Group 1044"/>
                <p:cNvGrpSpPr/>
                <p:nvPr/>
              </p:nvGrpSpPr>
              <p:grpSpPr>
                <a:xfrm>
                  <a:off x="3541680" y="3504600"/>
                  <a:ext cx="5028480" cy="1188720"/>
                  <a:chOff x="3541680" y="3504600"/>
                  <a:chExt cx="5028480" cy="1188720"/>
                </a:xfrm>
              </p:grpSpPr>
              <p:sp>
                <p:nvSpPr>
                  <p:cNvPr id="78" name="Text Box 1045"/>
                  <p:cNvSpPr/>
                  <p:nvPr/>
                </p:nvSpPr>
                <p:spPr>
                  <a:xfrm>
                    <a:off x="4943520" y="3504600"/>
                    <a:ext cx="218484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econd Round, Inc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" name="Group 1046"/>
                  <p:cNvGrpSpPr/>
                  <p:nvPr/>
                </p:nvGrpSpPr>
                <p:grpSpPr>
                  <a:xfrm>
                    <a:off x="3541680" y="4031280"/>
                    <a:ext cx="5028480" cy="662040"/>
                    <a:chOff x="3541680" y="4031280"/>
                    <a:chExt cx="5028480" cy="662040"/>
                  </a:xfrm>
                </p:grpSpPr>
                <p:sp>
                  <p:nvSpPr>
                    <p:cNvPr id="80" name="Line 1047"/>
                    <p:cNvSpPr/>
                    <p:nvPr/>
                  </p:nvSpPr>
                  <p:spPr>
                    <a:xfrm>
                      <a:off x="3541680" y="4031280"/>
                      <a:ext cx="502848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1048"/>
                    <p:cNvSpPr/>
                    <p:nvPr/>
                  </p:nvSpPr>
                  <p:spPr>
                    <a:xfrm>
                      <a:off x="6055920" y="4031280"/>
                      <a:ext cx="0" cy="6620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2" name="Text Box 1055"/>
                <p:cNvSpPr/>
                <p:nvPr/>
              </p:nvSpPr>
              <p:spPr>
                <a:xfrm>
                  <a:off x="3603600" y="3184560"/>
                  <a:ext cx="48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ACCOUNTS PAYABLE LED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Group 1070"/>
            <p:cNvGrpSpPr/>
            <p:nvPr/>
          </p:nvGrpSpPr>
          <p:grpSpPr>
            <a:xfrm>
              <a:off x="228600" y="3178080"/>
              <a:ext cx="3917160" cy="2449440"/>
              <a:chOff x="228600" y="3178080"/>
              <a:chExt cx="3917160" cy="2449440"/>
            </a:xfrm>
          </p:grpSpPr>
          <p:sp>
            <p:nvSpPr>
              <p:cNvPr id="84" name="Text Box 1054"/>
              <p:cNvSpPr/>
              <p:nvPr/>
            </p:nvSpPr>
            <p:spPr>
              <a:xfrm>
                <a:off x="342360" y="3178080"/>
                <a:ext cx="255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GENERAL LED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Group 1069"/>
              <p:cNvGrpSpPr/>
              <p:nvPr/>
            </p:nvGrpSpPr>
            <p:grpSpPr>
              <a:xfrm>
                <a:off x="228600" y="3534840"/>
                <a:ext cx="3917160" cy="2092680"/>
                <a:chOff x="228600" y="3534840"/>
                <a:chExt cx="3917160" cy="2092680"/>
              </a:xfrm>
            </p:grpSpPr>
            <p:grpSp>
              <p:nvGrpSpPr>
                <p:cNvPr id="86" name="Group 1049"/>
                <p:cNvGrpSpPr/>
                <p:nvPr/>
              </p:nvGrpSpPr>
              <p:grpSpPr>
                <a:xfrm>
                  <a:off x="228600" y="3534840"/>
                  <a:ext cx="2819520" cy="1019520"/>
                  <a:chOff x="228600" y="3534840"/>
                  <a:chExt cx="2819520" cy="1019520"/>
                </a:xfrm>
              </p:grpSpPr>
              <p:sp>
                <p:nvSpPr>
                  <p:cNvPr id="87" name="Text Box 1050"/>
                  <p:cNvSpPr/>
                  <p:nvPr/>
                </p:nvSpPr>
                <p:spPr>
                  <a:xfrm>
                    <a:off x="517320" y="3534840"/>
                    <a:ext cx="200664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ccounts Payab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" name="Group 1051"/>
                  <p:cNvGrpSpPr/>
                  <p:nvPr/>
                </p:nvGrpSpPr>
                <p:grpSpPr>
                  <a:xfrm>
                    <a:off x="228600" y="4020840"/>
                    <a:ext cx="2819520" cy="533520"/>
                    <a:chOff x="228600" y="4020840"/>
                    <a:chExt cx="2819520" cy="533520"/>
                  </a:xfrm>
                </p:grpSpPr>
                <p:sp>
                  <p:nvSpPr>
                    <p:cNvPr id="89" name="Line 1052"/>
                    <p:cNvSpPr/>
                    <p:nvPr/>
                  </p:nvSpPr>
                  <p:spPr>
                    <a:xfrm>
                      <a:off x="228600" y="4020840"/>
                      <a:ext cx="28195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Line 1053"/>
                    <p:cNvSpPr/>
                    <p:nvPr/>
                  </p:nvSpPr>
                  <p:spPr>
                    <a:xfrm>
                      <a:off x="1638360" y="402084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1" name="Group 1067"/>
                <p:cNvGrpSpPr/>
                <p:nvPr/>
              </p:nvGrpSpPr>
              <p:grpSpPr>
                <a:xfrm>
                  <a:off x="365400" y="4608360"/>
                  <a:ext cx="3780360" cy="1019160"/>
                  <a:chOff x="365400" y="4608360"/>
                  <a:chExt cx="3780360" cy="1019160"/>
                </a:xfrm>
              </p:grpSpPr>
              <p:sp>
                <p:nvSpPr>
                  <p:cNvPr id="92" name="Text Box 1057"/>
                  <p:cNvSpPr/>
                  <p:nvPr/>
                </p:nvSpPr>
                <p:spPr>
                  <a:xfrm>
                    <a:off x="365400" y="4608360"/>
                    <a:ext cx="378036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rchases Returns and Allowanc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" name="Group 1058"/>
                  <p:cNvGrpSpPr/>
                  <p:nvPr/>
                </p:nvGrpSpPr>
                <p:grpSpPr>
                  <a:xfrm>
                    <a:off x="419040" y="5094360"/>
                    <a:ext cx="3704760" cy="533160"/>
                    <a:chOff x="419040" y="5094360"/>
                    <a:chExt cx="3704760" cy="533160"/>
                  </a:xfrm>
                </p:grpSpPr>
                <p:sp>
                  <p:nvSpPr>
                    <p:cNvPr id="94" name="Line 1059"/>
                    <p:cNvSpPr/>
                    <p:nvPr/>
                  </p:nvSpPr>
                  <p:spPr>
                    <a:xfrm>
                      <a:off x="419040" y="5094360"/>
                      <a:ext cx="37047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Line 1060"/>
                    <p:cNvSpPr/>
                    <p:nvPr/>
                  </p:nvSpPr>
                  <p:spPr>
                    <a:xfrm>
                      <a:off x="2271240" y="50943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6" name="Text Box 106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64"/>
          <p:cNvSpPr/>
          <p:nvPr/>
        </p:nvSpPr>
        <p:spPr>
          <a:xfrm>
            <a:off x="6208560" y="4495680"/>
            <a:ext cx="29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New Bal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77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4"/>
          <p:cNvSpPr/>
          <p:nvPr/>
        </p:nvSpPr>
        <p:spPr>
          <a:xfrm>
            <a:off x="514440" y="3718080"/>
            <a:ext cx="68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RETURNS AND ALLOW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D:\C21 PowerPoint\Multi_Journal\art for blue\Ch18\Ch18-04c.jpg"/>
          <p:cNvPicPr/>
          <p:nvPr/>
        </p:nvPicPr>
        <p:blipFill>
          <a:blip r:embed="rId1"/>
          <a:srcRect l="25557" t="0" r="0" b="73007"/>
          <a:stretch/>
        </p:blipFill>
        <p:spPr>
          <a:xfrm>
            <a:off x="457200" y="1143000"/>
            <a:ext cx="8229600" cy="2170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2819520" y="2819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1676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79412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662940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60020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14440" y="43783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diagonal line in the Post. Ref.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14440" y="47419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14440" y="510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14440" y="54687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14440" y="583236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5562720" y="2362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8077320" y="2819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6211800" y="4232160"/>
            <a:ext cx="29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089240" y="398952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BUYING SUPPLI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57200" y="762120"/>
            <a:ext cx="8229600" cy="1313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supplies are not merchandise, they would not be recorded in the Purchase Journal, use the General Jour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arch 9. Bought supplies on account from Winter Supplies, $316.00. Memorandum No. 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57200" y="215424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543800" y="214776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5867280" y="215424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733920" y="2154240"/>
            <a:ext cx="167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280" y="398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56720" y="4214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9160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1574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98480" y="50626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697120" y="53481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6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343960" y="523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1"/>
          <p:cNvGrpSpPr/>
          <p:nvPr/>
        </p:nvGrpSpPr>
        <p:grpSpPr>
          <a:xfrm>
            <a:off x="3541680" y="3184560"/>
            <a:ext cx="5028480" cy="1508760"/>
            <a:chOff x="3541680" y="3184560"/>
            <a:chExt cx="5028480" cy="1508760"/>
          </a:xfrm>
        </p:grpSpPr>
        <p:grpSp>
          <p:nvGrpSpPr>
            <p:cNvPr id="131" name="Group 22"/>
            <p:cNvGrpSpPr/>
            <p:nvPr/>
          </p:nvGrpSpPr>
          <p:grpSpPr>
            <a:xfrm>
              <a:off x="3541680" y="3504600"/>
              <a:ext cx="5028480" cy="1188720"/>
              <a:chOff x="3541680" y="3504600"/>
              <a:chExt cx="5028480" cy="1188720"/>
            </a:xfrm>
          </p:grpSpPr>
          <p:sp>
            <p:nvSpPr>
              <p:cNvPr id="132" name="Text Box 23"/>
              <p:cNvSpPr/>
              <p:nvPr/>
            </p:nvSpPr>
            <p:spPr>
              <a:xfrm>
                <a:off x="5144040" y="3504600"/>
                <a:ext cx="17780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nter Suppl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Group 24"/>
              <p:cNvGrpSpPr/>
              <p:nvPr/>
            </p:nvGrpSpPr>
            <p:grpSpPr>
              <a:xfrm>
                <a:off x="3541680" y="4031280"/>
                <a:ext cx="5028480" cy="662040"/>
                <a:chOff x="3541680" y="4031280"/>
                <a:chExt cx="5028480" cy="662040"/>
              </a:xfrm>
            </p:grpSpPr>
            <p:sp>
              <p:nvSpPr>
                <p:cNvPr id="134" name="Line 25"/>
                <p:cNvSpPr/>
                <p:nvPr/>
              </p:nvSpPr>
              <p:spPr>
                <a:xfrm>
                  <a:off x="3541680" y="4031280"/>
                  <a:ext cx="502848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>
                  <a:off x="6055920" y="4031280"/>
                  <a:ext cx="0" cy="6620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" name="Text Box 27"/>
            <p:cNvSpPr/>
            <p:nvPr/>
          </p:nvSpPr>
          <p:spPr>
            <a:xfrm>
              <a:off x="3603600" y="3184560"/>
              <a:ext cx="48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ACCOUNTS PAYABLE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228600" y="3178080"/>
            <a:ext cx="3895200" cy="2449440"/>
            <a:chOff x="228600" y="3178080"/>
            <a:chExt cx="3895200" cy="2449440"/>
          </a:xfrm>
        </p:grpSpPr>
        <p:sp>
          <p:nvSpPr>
            <p:cNvPr id="138" name="Text Box 29"/>
            <p:cNvSpPr/>
            <p:nvPr/>
          </p:nvSpPr>
          <p:spPr>
            <a:xfrm>
              <a:off x="342360" y="317808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L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30"/>
            <p:cNvGrpSpPr/>
            <p:nvPr/>
          </p:nvGrpSpPr>
          <p:grpSpPr>
            <a:xfrm>
              <a:off x="228600" y="3534840"/>
              <a:ext cx="3895200" cy="2092680"/>
              <a:chOff x="228600" y="3534840"/>
              <a:chExt cx="3895200" cy="2092680"/>
            </a:xfrm>
          </p:grpSpPr>
          <p:grpSp>
            <p:nvGrpSpPr>
              <p:cNvPr id="140" name="Group 31"/>
              <p:cNvGrpSpPr/>
              <p:nvPr/>
            </p:nvGrpSpPr>
            <p:grpSpPr>
              <a:xfrm>
                <a:off x="228600" y="3534840"/>
                <a:ext cx="2819520" cy="1019520"/>
                <a:chOff x="228600" y="3534840"/>
                <a:chExt cx="2819520" cy="1019520"/>
              </a:xfrm>
            </p:grpSpPr>
            <p:sp>
              <p:nvSpPr>
                <p:cNvPr id="141" name="Text Box 32"/>
                <p:cNvSpPr/>
                <p:nvPr/>
              </p:nvSpPr>
              <p:spPr>
                <a:xfrm>
                  <a:off x="993600" y="3534840"/>
                  <a:ext cx="10540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uppl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Group 33"/>
                <p:cNvGrpSpPr/>
                <p:nvPr/>
              </p:nvGrpSpPr>
              <p:grpSpPr>
                <a:xfrm>
                  <a:off x="228600" y="4020840"/>
                  <a:ext cx="2819520" cy="533520"/>
                  <a:chOff x="228600" y="4020840"/>
                  <a:chExt cx="2819520" cy="533520"/>
                </a:xfrm>
              </p:grpSpPr>
              <p:sp>
                <p:nvSpPr>
                  <p:cNvPr id="143" name="Line 34"/>
                  <p:cNvSpPr/>
                  <p:nvPr/>
                </p:nvSpPr>
                <p:spPr>
                  <a:xfrm>
                    <a:off x="228600" y="402084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Line 35"/>
                  <p:cNvSpPr/>
                  <p:nvPr/>
                </p:nvSpPr>
                <p:spPr>
                  <a:xfrm>
                    <a:off x="1638360" y="402084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Group 36"/>
              <p:cNvGrpSpPr/>
              <p:nvPr/>
            </p:nvGrpSpPr>
            <p:grpSpPr>
              <a:xfrm>
                <a:off x="419040" y="4608360"/>
                <a:ext cx="3704760" cy="1019160"/>
                <a:chOff x="419040" y="4608360"/>
                <a:chExt cx="3704760" cy="1019160"/>
              </a:xfrm>
            </p:grpSpPr>
            <p:sp>
              <p:nvSpPr>
                <p:cNvPr id="146" name="Text Box 37"/>
                <p:cNvSpPr/>
                <p:nvPr/>
              </p:nvSpPr>
              <p:spPr>
                <a:xfrm>
                  <a:off x="1252440" y="4608360"/>
                  <a:ext cx="20066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ccounts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Group 38"/>
                <p:cNvGrpSpPr/>
                <p:nvPr/>
              </p:nvGrpSpPr>
              <p:grpSpPr>
                <a:xfrm>
                  <a:off x="419040" y="5094360"/>
                  <a:ext cx="3704760" cy="533160"/>
                  <a:chOff x="419040" y="5094360"/>
                  <a:chExt cx="3704760" cy="533160"/>
                </a:xfrm>
              </p:grpSpPr>
              <p:sp>
                <p:nvSpPr>
                  <p:cNvPr id="148" name="Line 39"/>
                  <p:cNvSpPr/>
                  <p:nvPr/>
                </p:nvSpPr>
                <p:spPr>
                  <a:xfrm>
                    <a:off x="419040" y="5094360"/>
                    <a:ext cx="37047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40"/>
                  <p:cNvSpPr/>
                  <p:nvPr/>
                </p:nvSpPr>
                <p:spPr>
                  <a:xfrm>
                    <a:off x="2271240" y="50943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0" name="Text Box 4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BUYING SUPPLI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D:\C21 PowerPoint\Multi_Journal\art for blue\Ch18\Ch18-04d.jpg"/>
          <p:cNvPicPr/>
          <p:nvPr/>
        </p:nvPicPr>
        <p:blipFill>
          <a:blip r:embed="rId1"/>
          <a:srcRect l="19791" t="0" r="0" b="70029"/>
          <a:stretch/>
        </p:blipFill>
        <p:spPr>
          <a:xfrm>
            <a:off x="457200" y="1143000"/>
            <a:ext cx="820908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14440" y="3981600"/>
            <a:ext cx="6877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 the account tit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486400" y="2971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8580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678168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97180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1600200" y="201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14440" y="434340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4440" y="36162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14440" y="470700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4440" y="5068800"/>
            <a:ext cx="664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 and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4440" y="5749920"/>
            <a:ext cx="66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Place a diagonal line in the Post. Ref.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440" y="6113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267080" y="2133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077320" y="30830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:\C21 PowerPoint\Multi_Journal\art for blue\Ch18\Ch18-04e.jpg"/>
          <p:cNvPicPr/>
          <p:nvPr/>
        </p:nvPicPr>
        <p:blipFill>
          <a:blip r:embed="rId1"/>
          <a:srcRect l="15772" t="0" r="0" b="36858"/>
          <a:stretch/>
        </p:blipFill>
        <p:spPr>
          <a:xfrm>
            <a:off x="457200" y="774720"/>
            <a:ext cx="6095880" cy="5897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6019920" y="11872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FROM A GENERAL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19920" y="18702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19920" y="8222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019920" y="2233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019920" y="2595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5"/>
          <p:cNvGrpSpPr/>
          <p:nvPr/>
        </p:nvGrpSpPr>
        <p:grpSpPr>
          <a:xfrm>
            <a:off x="4191120" y="1981080"/>
            <a:ext cx="2743200" cy="3810240"/>
            <a:chOff x="4191120" y="1981080"/>
            <a:chExt cx="2743200" cy="3810240"/>
          </a:xfrm>
        </p:grpSpPr>
        <p:grpSp>
          <p:nvGrpSpPr>
            <p:cNvPr id="177" name="Group 26"/>
            <p:cNvGrpSpPr/>
            <p:nvPr/>
          </p:nvGrpSpPr>
          <p:grpSpPr>
            <a:xfrm>
              <a:off x="4191120" y="1981080"/>
              <a:ext cx="2743200" cy="3810240"/>
              <a:chOff x="4191120" y="1981080"/>
              <a:chExt cx="2743200" cy="3810240"/>
            </a:xfrm>
          </p:grpSpPr>
          <p:sp>
            <p:nvSpPr>
              <p:cNvPr id="178" name="Freeform 23"/>
              <p:cNvSpPr/>
              <p:nvPr/>
            </p:nvSpPr>
            <p:spPr>
              <a:xfrm>
                <a:off x="4191120" y="1981080"/>
                <a:ext cx="2743200" cy="381024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5"/>
              <p:cNvSpPr/>
              <p:nvPr/>
            </p:nvSpPr>
            <p:spPr>
              <a:xfrm flipV="1">
                <a:off x="5943600" y="3048120"/>
                <a:ext cx="0" cy="9144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Oval 6"/>
            <p:cNvSpPr/>
            <p:nvPr/>
          </p:nvSpPr>
          <p:spPr>
            <a:xfrm>
              <a:off x="5715000" y="29718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4"/>
          <p:cNvGrpSpPr/>
          <p:nvPr/>
        </p:nvGrpSpPr>
        <p:grpSpPr>
          <a:xfrm>
            <a:off x="4530600" y="4800600"/>
            <a:ext cx="2479680" cy="1905120"/>
            <a:chOff x="4530600" y="4800600"/>
            <a:chExt cx="2479680" cy="1905120"/>
          </a:xfrm>
        </p:grpSpPr>
        <p:sp>
          <p:nvSpPr>
            <p:cNvPr id="182" name="Oval 9"/>
            <p:cNvSpPr/>
            <p:nvPr/>
          </p:nvSpPr>
          <p:spPr>
            <a:xfrm>
              <a:off x="6172200" y="4800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4530600" y="5157720"/>
              <a:ext cx="7621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6477120" y="60958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5257800" y="6477120"/>
              <a:ext cx="990720" cy="2286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41"/>
          <p:cNvGrpSpPr/>
          <p:nvPr/>
        </p:nvGrpSpPr>
        <p:grpSpPr>
          <a:xfrm>
            <a:off x="1717560" y="762120"/>
            <a:ext cx="3616560" cy="5638680"/>
            <a:chOff x="1717560" y="762120"/>
            <a:chExt cx="3616560" cy="5638680"/>
          </a:xfrm>
        </p:grpSpPr>
        <p:sp>
          <p:nvSpPr>
            <p:cNvPr id="187" name="Freeform 31"/>
            <p:cNvSpPr/>
            <p:nvPr/>
          </p:nvSpPr>
          <p:spPr>
            <a:xfrm>
              <a:off x="1981080" y="762120"/>
              <a:ext cx="3353040" cy="1143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3"/>
            <p:cNvSpPr/>
            <p:nvPr/>
          </p:nvSpPr>
          <p:spPr>
            <a:xfrm>
              <a:off x="1981080" y="2133720"/>
              <a:ext cx="609840" cy="30477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1717560" y="10666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981080" y="5181480"/>
              <a:ext cx="1447920" cy="12193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1981080" y="3470400"/>
              <a:ext cx="304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0"/>
          <p:cNvGrpSpPr/>
          <p:nvPr/>
        </p:nvGrpSpPr>
        <p:grpSpPr>
          <a:xfrm>
            <a:off x="422280" y="1752480"/>
            <a:ext cx="797040" cy="4654800"/>
            <a:chOff x="422280" y="1752480"/>
            <a:chExt cx="797040" cy="4654800"/>
          </a:xfrm>
        </p:grpSpPr>
        <p:sp>
          <p:nvSpPr>
            <p:cNvPr id="193" name="Freeform 37"/>
            <p:cNvSpPr/>
            <p:nvPr/>
          </p:nvSpPr>
          <p:spPr>
            <a:xfrm>
              <a:off x="685800" y="1752480"/>
              <a:ext cx="533520" cy="46548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8"/>
            <p:cNvSpPr/>
            <p:nvPr/>
          </p:nvSpPr>
          <p:spPr>
            <a:xfrm>
              <a:off x="685800" y="3463920"/>
              <a:ext cx="304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9"/>
            <p:cNvSpPr/>
            <p:nvPr/>
          </p:nvSpPr>
          <p:spPr>
            <a:xfrm>
              <a:off x="685800" y="5146560"/>
              <a:ext cx="533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7"/>
            <p:cNvSpPr/>
            <p:nvPr/>
          </p:nvSpPr>
          <p:spPr>
            <a:xfrm>
              <a:off x="422280" y="19400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7"/>
          <p:cNvGrpSpPr/>
          <p:nvPr/>
        </p:nvGrpSpPr>
        <p:grpSpPr>
          <a:xfrm>
            <a:off x="3809880" y="1981080"/>
            <a:ext cx="1371600" cy="4419720"/>
            <a:chOff x="3809880" y="1981080"/>
            <a:chExt cx="1371600" cy="4419720"/>
          </a:xfrm>
        </p:grpSpPr>
        <p:sp>
          <p:nvSpPr>
            <p:cNvPr id="198" name="Freeform 19"/>
            <p:cNvSpPr/>
            <p:nvPr/>
          </p:nvSpPr>
          <p:spPr>
            <a:xfrm>
              <a:off x="4191120" y="1981080"/>
              <a:ext cx="990360" cy="30481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3944880" y="2743200"/>
              <a:ext cx="990720" cy="36576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3809880" y="25909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114300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s allow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t memoran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4, page 4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3:09:26Z</dcterms:created>
  <dc:creator>Mary Colleen McLaughlin</dc:creator>
  <dc:description/>
  <dc:language>en-US</dc:language>
  <cp:lastModifiedBy>David Combs</cp:lastModifiedBy>
  <cp:lastPrinted>1999-04-07T23:31:54Z</cp:lastPrinted>
  <dcterms:modified xsi:type="dcterms:W3CDTF">2011-08-31T15:50:58Z</dcterms:modified>
  <cp:revision>59</cp:revision>
  <dc:subject/>
  <dc:title>ADJUSTING ENTRY FOR SUPPLIES</dc:title>
</cp:coreProperties>
</file>